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F0F-D6EF-482B-9B89-86E48300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F99-3DFA-4973-A0A7-327194B6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4B08E-CD6E-485B-A459-187FC661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F3F85-4C44-4016-90A3-58CF2442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698BB-59F5-4CA1-982C-E0EEECDB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B36C8-F00E-4C7B-9AC3-CCE7421A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75B05-D327-4343-B2B1-B7047DA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24A93-36F2-4E83-9EDF-42997B67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A311B-F687-42D6-A476-C2E692EE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04F85-2829-4DCC-BF51-B36E9062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3238C-8D58-455F-B6DF-E1F97EE5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A8090-DB64-44A5-A450-950B7959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197-F7A7-4A2D-82AA-0546C1E0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ECDF5-D917-4A3E-A489-9CE8849C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0DDF4-199C-4E0A-B5F9-7B814FC9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F11C5-82B4-48B6-99D6-83B03337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EE841-AC5B-4EBA-99F8-6E858386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E23FF-5DD0-496E-B88E-32DE300F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F5B0E-9B1A-4AB0-BC74-3D537AFB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75F66-F353-4610-B95D-4387DE15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57129-3C70-4BED-B360-BAFDABC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F56D3-4D6B-428F-A1B4-D94A19E8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3E355-FECC-417C-89BB-2C8210A5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B14-8FAF-4B01-AF36-05A14FAA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D4759-C1BB-4534-9E43-382371C4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328B4-0219-4EE4-9281-FF290F23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31C6D-FDC1-4066-91E7-0F70A2B0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C93B2-06A7-4475-80EE-297E0A82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B5710-6E5F-4CEF-8BB8-10AB4179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E7299-27DB-44EA-8525-4FB8ECB3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4E112-B246-4F4A-BCB0-86FB49AE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F7891-A98C-42DF-918F-76F9A8B3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D146A-A58F-4D80-9722-BD6BB411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4433D-277C-4557-BE24-A959197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6699-028A-4319-8CAC-C6DC1936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D24A9-5494-4201-8EE6-AA6BC761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F6964-7CA7-4DFC-A0FA-12EF8B3B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B50E9-1594-4EBA-B55A-5CF676EF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967A3-803B-428C-A792-0F374443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800BD-2958-4449-A637-9759D9C3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5D330-13BC-4E49-B44A-7082CDF2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D4104-7308-432A-A014-99E77B00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660A3-CACC-483C-9BDF-6001272F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A5C44-0ED3-4CDC-B0C5-1FE4DC8C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1AFE7-A7D8-4D24-BDAC-A07E6F47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F3E7-111B-4128-9EC3-821FA9B7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EF3FC-6D11-4368-AF9A-6579944D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EA769-8043-46C2-9EDE-C2C730FA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D7136-1E2C-4BFE-86F5-E2A00E25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96146-D863-4795-9AA2-A7A9A805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22575-C14E-4048-8B8D-BD551192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07918-3C40-4529-8F61-E7ABAF80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A1E1B-4F0B-43F8-B5F5-534259D7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3BB3B-47C7-435D-91AF-D067425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9F1DA-CF46-400E-942B-4BDA8E21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62992-E51B-4C08-8A3A-1A21B22D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9331-1DAC-49B1-B677-ADE266D2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32449-24C2-4035-A949-605807AD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18B06-83D7-4443-B7A2-4CC4AE92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2F9DC-F98E-4CD3-9885-D005A651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9BBB8-9081-4773-B5D8-409E7BDE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7EC05-10F1-4565-801E-C4A0B07A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848BC-9B03-49BA-BEF6-0E5ADA1C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B4F9C-862F-4331-A41D-8D48A21E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2B4E1-9629-41EC-8925-4687B308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11A9D-2399-4090-8657-A29DFDA0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F0889-EAB4-49A6-AAD0-010D6B0D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7F63-239C-43C9-9012-770F0251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E0CF0-B200-4F4B-B9E8-F4CE0951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55A91-CDC1-49FD-8358-059DBDAB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770F6-C275-46E5-B012-E3D38FB7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180B6-02B4-4AA2-A976-48A5231F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25E2F-0373-4A56-B426-E17F9B34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92AEF-746F-428F-89E8-8EE80F30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9A3AC-D943-4208-BB45-E7EAFBEA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C01E0-D7B5-4A39-AA26-BB1084EC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67D2C-9E3C-4589-AE6C-8513BC1D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D9F4F-FBA6-4270-8174-CEF89DF4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C87A-79C2-466B-89F2-0E148A50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BFD72-4FEB-446D-A5B8-A8F39A11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DF304-717C-43F5-96F5-13AC326F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0EF6E-9891-4817-9976-962BC09F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48CE0-02C0-4ABD-8D08-B0034441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E5AD6-37F8-402F-9B31-78CADF33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CB140A-04A7-4575-BBD6-C13CF39B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3CAF3-27D9-4193-8A5B-4149A2E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B7578-32BE-4F33-B242-2676BE5B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F3091-E663-4F8D-9727-51AD03CC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FD1C8F-629A-4C24-80D1-10A022D2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997A-877A-499D-BD1A-11310EA7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3CEBD-5B92-4960-96ED-245A4395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6DA629-C668-44CD-85D4-A974134F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14953-CC17-41D9-96EB-361440C9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773BD-2851-44B5-847D-70CF7C05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2769F4-4D07-4F9C-BB95-EA725567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72F18-F9CC-4C2C-B915-96E7E56A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8D5ED1-E3DD-4A0A-9F57-D6B56DDA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84B452-C812-488D-952B-24132B75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93CB3B-F517-4405-B0D9-F1AE3348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51B1CC-932A-4B78-8009-13D5326C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5A6B-42F0-4210-97AB-88D8B68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4A95BA-5F7B-466D-AA1A-F9C6CAE9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E3B40-B700-41C0-95F6-318A22B5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0BC27C-7E53-49CD-89C6-7FA137FA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E6D25-FDC1-422D-9D49-EB8F01BB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0E4CF-E031-4280-B7D7-77685599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D4844-FE28-476E-ACE0-0F610E4A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29ECE-B56E-40C1-96B4-B1829E1C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9261C-27CD-41D2-A856-B66A56B8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5860E-FEB0-4526-9A89-A9A72346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72919-F089-47EB-8902-F8D8514E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1AE-419D-4A21-9708-2255ED7A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4ABB-9F07-490A-9458-7C6FB98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FF4404-7850-4F73-BD42-A7513CB2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BB86E-72C2-44A5-BEDD-FADBCF77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23684B-4EBF-4E16-B9FA-E0BE7F84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B0E9E7-B6AE-49A4-8206-3D04F36C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F1FE9-6714-4769-B172-4E2CD520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3A22F-BE36-45E4-A0F0-2E0A00C8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108A9-AAC2-4CDD-ACF7-8ABB55EB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915EA-D7A9-45FC-9BE6-96BD799D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1AA5ED-008F-47E4-A993-6C387C75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1BF6E5-9BCC-45E5-85E5-9C94F6FF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0D5D-46B9-4485-8DBE-07AF8CFC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89660D-C548-45AB-B950-F8B2D45F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FF083-B8AE-41A8-9CEE-43B25895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E63F42-C86A-43CC-94C0-947B306C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D4286-DC7F-4FA4-8F0A-C8719487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7A338-6B42-43B4-BC30-08D68B8B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3F3668-927A-4E2E-A086-300C2DF8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60CBCA-B3F7-4F8B-95EA-2655CE81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346062-93AD-4ABA-B00D-4BB58DFE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4E34D1-3671-4A2C-B47A-08E940F2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F67645-2B12-40DC-9B21-93AF9CA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AEF4-7056-401D-9721-DA7F3634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3DC591-3DDE-418A-B3B1-743DF96D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B65C5-39EC-4E31-AB62-4C5D4A1B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AB297-0AF6-466B-B84B-1AF757BE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43213B-3EAF-40BD-AF94-10D9D52A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7E90D-7399-4930-86FB-81024A9E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44C4C-13F2-428E-B672-A27DFF3A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205BD0-F334-43AC-9865-BDAF910E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8D189-C004-4494-915A-7D7A30B9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F57B62-60DE-4003-8363-495FD5D5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D18F04-9940-4021-9162-C9DA965A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EA5A-69AA-445B-BF67-8C99FF24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6E859-F5B5-4EC0-8F77-D9CFCFCE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155F2-448B-4E29-94AC-8435F95A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697A72-DE3B-41B8-9F2B-5C612A8A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F5EDB-A706-4F77-AADA-424D3876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52535-6CA7-42A5-A157-CAA01576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3C008-E1CB-4A1B-A0BF-4C046DF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54BC3-C998-452F-9CEE-5723185E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3AEDA-DD34-40FC-BD95-1E0DE59B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303709-A867-4989-B4CF-E8A30CFC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B6C6FF-37A0-4B48-82FD-32D16C3F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08D9-0694-480D-AA4E-8137BFBC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27D80B-0F8E-473D-A7D1-50C805AF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C8C858-0F16-4916-B588-6606CF24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AABA30-6973-4FEB-9B35-E3F3D876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A3BBE1-8448-4306-BEAB-29CD2FD4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F3401-5460-442D-9167-45969A6A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458462-57DF-4F20-8BFA-C51868B8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5F8C27-0096-43B3-9A58-21C8D927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F52247-E971-4A6A-91C2-36445420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C8AAB6-79E0-4F22-A6FB-65F1EF58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BBFFA-276A-4550-A901-F5800FA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96698-4DD0-453F-979C-C16C467B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A2A495-3E60-450E-BD98-362C8839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4ADFFE-010F-476D-BDA1-A4898DEF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4D0B2-DDB4-4445-8A1D-E72C40F7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2DC5-848A-4282-A4FD-B460F610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BDE7B-590A-4C27-A924-4EC5B470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733A-1CB3-490A-A1E1-820E00E0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5FE1-B8C5-4C25-AA73-8F78F4F1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1D8-E9FF-469E-AEF2-C6ED3B4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76E33-D427-4B2E-9C12-2418310E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2635-F4D2-48D4-94BB-D13D0A6F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009C-DEA3-4B17-B040-BC52AFC6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222E-B902-441B-92F6-9E5211D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9A55-7FF1-4816-B9CA-71C9B789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F8DD-800F-4541-A72A-600CAC75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318CD-B5E2-4F4F-89FE-539835F8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6B023-F40D-40D6-BF8C-4E448639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A5B5-A402-49AC-9F18-3846743E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44789-B065-473B-A3B0-95766E40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32E-23E8-454F-864E-CCA801EF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B043-3B55-4D17-AD74-D1471440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4571D-5462-49D8-B130-F76610DA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F164F-F2FF-4E54-ABDF-F2FE2412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0F309-6BA8-46B3-A3C8-CA2BD1E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11B7C-88F4-4D3F-BE84-89B2B4CD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A3582-88A3-4AAE-9A18-01D370AA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62FF-BC9A-49AC-BAEE-D44B5404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1D02B-72B8-4B59-A757-41FDC19E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A5A36-1F07-4993-BCA8-E0197589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34B41-D03C-41CD-8809-B9C91E8B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F0B-77CA-493B-8CA3-447B6679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70FF3-E8CE-433C-A65A-D45BC8D8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36386-BD2E-4409-8599-98D47C9F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A1CBD-21F9-4264-B132-CDC97482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FADE1-4708-4153-8797-FD211519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8B2AF-FBAD-4F1E-BB7A-21C28E05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36426-5DFF-4C82-9AF2-FB3F88C0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8FCEF-CE49-4994-8787-4AC3A444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0E229-BEF1-48A3-A636-B5B04ED1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31DDE-244B-48CF-AECF-E876880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E02A4-6863-4D93-8810-FEFCE6F0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F84-F399-407F-B6D9-2F3B3029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CEFF6-BDFC-4566-9BC1-BE6BE7AA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5CEBC-0DFC-4CB8-8CEA-4CC73443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EB194-36E5-4DB0-A412-506C36BE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35634-3458-4D85-9C94-AD424353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99CA6-D9F7-48AD-88A3-37294F49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421F4-418C-41E5-8354-F5946B1A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DE207-BFEB-4A75-AD96-E4228811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CB0F9-1BBE-4488-AC09-8194A43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72289-4732-4BFE-B8A8-98980F09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92E1E-642B-4052-99B5-ACC00458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E7E-8B61-4509-9BAD-4DDAA525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87690-4F66-461D-A17D-5898F4A9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27FB3-6AA8-42D0-A257-3BD3BEB2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1FB8E-E2AE-48BA-ADF2-CD0355F0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B4B3E-CE76-4587-BF38-78BD4E02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94BF1-980E-4C9C-8487-67A21385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8BE1A-A8E5-468D-A0E5-5D2C89D8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A9E70-1876-4077-9B92-B8A90D6B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DE01C-D036-48A8-9898-276EE0AF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573E1-F7C4-494E-BA9C-08440D9B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F437F-7062-491C-905D-1377CE3F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B7E-7B8D-446A-915C-8C43D13F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CCEE4-DFC2-4F58-B2C8-D04B6DBD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317DA-7E2A-40AA-BF91-5C724DE4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B1A4-21CE-452C-882A-E0CD8C6C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E7552-88CF-47D4-A2CF-10CBBE6F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D93B9-D051-47D3-A749-521E3890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04C06-42DE-47EE-A929-B9DFA0FD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23298-682C-4F44-80BE-A4F570B5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3870E-6254-42B0-A8C0-8300C1BB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EB4EB-F601-45C3-BD48-0AE6243E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B97A8-B408-4D3B-9991-57C281B6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B85-3304-46B9-BF54-E96733A3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39CEC-A427-4EA7-AF30-64E6A80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64574-2449-484F-9188-30CC91EE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9E9BC-625C-4407-8D1C-CA3CEFBF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FC95C-856E-44D9-96B8-08C7FAA1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39DB3-1A90-42FD-B5AB-F0FFF439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4419B-124E-4C24-83D9-A3F58A84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15992-34D0-491F-8333-F2DE3A2C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5FCAB-A987-43D2-8D65-5772F3E5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D67E7-92FF-4EE2-82B9-86353229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30142-7CA0-4C36-B7A9-F33F93EB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67D5-E2C4-446E-8C77-8568A82113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4AF3-8FF4-45C2-892E-523C86843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9A7E-5BB9-4DDA-8AF2-FF7616684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7576-4FF7-40D2-985D-FE8B63EF8C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B619-8174-49DB-9C6E-563180DCE9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E474-1C11-4777-A656-3533423AAE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954E-46E7-411E-BE4D-C18DACBBA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E140-8C3F-4B07-BFC9-E6BD6E31DF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CC18-B705-4939-AFEF-7FEB2CAD1F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D363-B111-46EA-A001-2BA4CD700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B3F0-D652-4D85-B820-3FF7F43D97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7329-FB4F-4DD4-BBD2-402F69D05D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5802-F1DE-4913-A742-D47598E73C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A0F7-12F3-4670-A269-0FAAF0E646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EDC6-65D8-42FD-96EA-7104729A9C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95A3-0D16-48E2-B145-FB1CE34B31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185C-7CBF-431A-97F2-E3BF77792F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61F7-F0E9-4AF8-89A1-6E9F6D711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E226-A9FB-4144-9FDA-AE4D9D0F24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C50E-F1D6-4810-9006-4FC42880FE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3634-FAA2-4483-9D48-7EE7D31E19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150E-A40E-40E7-A164-ED3C3206DE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67A-4107-48AA-A3D0-46E905053D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47C9-3705-4E68-86D5-169F390DF3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AC5B-7409-4BF1-BE86-12EE7BC489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4E27-5DE1-4EED-841B-E556CD10B8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4EAF-9230-4717-A5DD-2B5CAB0126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798C-F94B-461B-A179-F8F75DDE65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BF35-6DD1-4B20-9155-649A8E05F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8827-AC10-4C82-A743-61B4FA2732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E0EF-2F0F-482C-90A2-69A21870F6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10FF-5978-4EF0-9E43-3DBF148AC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4F58-35E4-42E3-A9CD-D3857DF4F6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75D2-4207-4843-B8EB-9AADB5586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5B87-8840-4591-9F98-AFB71514FD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9CD-9528-493F-A86A-C9A0427AD5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EC82-1CEE-4D80-BD26-C176B274EE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4BCA-1818-4F1F-9741-E1778CE6D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9409-C0CD-4834-B700-8D36F11EA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F87C-2E3D-4EB9-86AD-CCE18CF69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468360" y="2843280"/>
            <a:ext cx="820728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2231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867720" cy="194292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52232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8210520" cy="13050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211640" y="1944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7221600" y="191628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4572000" y="256536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7380360" y="250668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1951200" y="3933720"/>
            <a:ext cx="1022040" cy="4478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4759200" y="394812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7927920" y="396252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1922400" y="458136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5105520" y="4581360"/>
            <a:ext cx="1022400" cy="4478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7726320" y="4581360"/>
            <a:ext cx="10224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6120" y="243000"/>
            <a:ext cx="8591760" cy="63720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564000" y="3801960"/>
            <a:ext cx="4895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492360" y="442260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788000" y="527220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480440" y="530064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488280" y="5819760"/>
            <a:ext cx="50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04800" y="900000"/>
            <a:ext cx="7934400" cy="5058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5508720" y="17146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59412" descr=""/>
          <p:cNvPicPr/>
          <p:nvPr/>
        </p:nvPicPr>
        <p:blipFill>
          <a:blip r:embed="rId3"/>
          <a:stretch/>
        </p:blipFill>
        <p:spPr>
          <a:xfrm>
            <a:off x="1273320" y="1552680"/>
            <a:ext cx="3619440" cy="780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522760" y="3295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9414" descr=""/>
          <p:cNvPicPr/>
          <p:nvPr/>
        </p:nvPicPr>
        <p:blipFill>
          <a:blip r:embed="rId5"/>
          <a:stretch/>
        </p:blipFill>
        <p:spPr>
          <a:xfrm>
            <a:off x="1287360" y="3133800"/>
            <a:ext cx="3619440" cy="780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5796000" y="41781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3348000" y="47102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5580000" y="472428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4989600" y="5257800"/>
            <a:ext cx="93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76801" descr=""/>
          <p:cNvPicPr/>
          <p:nvPr/>
        </p:nvPicPr>
        <p:blipFill>
          <a:blip r:embed="rId1"/>
          <a:stretch/>
        </p:blipFill>
        <p:spPr>
          <a:xfrm>
            <a:off x="566640" y="1562040"/>
            <a:ext cx="8010720" cy="373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2166840" y="2363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3463920" y="2982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5580000" y="2967120"/>
            <a:ext cx="244800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219564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5940360" y="357336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3419640" y="4149720"/>
            <a:ext cx="16570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6488280" y="41641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9"/>
          <a:stretch/>
        </p:blipFill>
        <p:spPr>
          <a:xfrm>
            <a:off x="2124000" y="4767120"/>
            <a:ext cx="172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8373" descr=""/>
          <p:cNvPicPr/>
          <p:nvPr/>
        </p:nvPicPr>
        <p:blipFill>
          <a:blip r:embed="rId1"/>
          <a:stretch/>
        </p:blipFill>
        <p:spPr>
          <a:xfrm>
            <a:off x="290520" y="985680"/>
            <a:ext cx="8562960" cy="48866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5219640" y="2565360"/>
            <a:ext cx="280836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5219640" y="344340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5219640" y="430704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219640" y="5157720"/>
            <a:ext cx="28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7352" descr=""/>
          <p:cNvPicPr/>
          <p:nvPr/>
        </p:nvPicPr>
        <p:blipFill>
          <a:blip r:embed="rId1"/>
          <a:stretch/>
        </p:blipFill>
        <p:spPr>
          <a:xfrm>
            <a:off x="195120" y="766800"/>
            <a:ext cx="8753760" cy="5324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236520" y="3429000"/>
            <a:ext cx="1728720" cy="2808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1965240" y="3213000"/>
            <a:ext cx="2535480" cy="28083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2527200" y="2506680"/>
            <a:ext cx="132408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4572000" y="3371760"/>
            <a:ext cx="1728720" cy="28083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6300720" y="3357720"/>
            <a:ext cx="2664000" cy="28080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7020000" y="2565360"/>
            <a:ext cx="1324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6324" descr=""/>
          <p:cNvPicPr/>
          <p:nvPr/>
        </p:nvPicPr>
        <p:blipFill>
          <a:blip r:embed="rId1"/>
          <a:stretch/>
        </p:blipFill>
        <p:spPr>
          <a:xfrm>
            <a:off x="357120" y="1609560"/>
            <a:ext cx="8429760" cy="36388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26676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2340000" y="220500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2771640" y="16286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4788000" y="2363760"/>
            <a:ext cx="2087640" cy="2808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877080" y="2276640"/>
            <a:ext cx="2087640" cy="2808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7250040" y="1614600"/>
            <a:ext cx="122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55300" descr=""/>
          <p:cNvPicPr/>
          <p:nvPr/>
        </p:nvPicPr>
        <p:blipFill>
          <a:blip r:embed="rId1"/>
          <a:stretch/>
        </p:blipFill>
        <p:spPr>
          <a:xfrm>
            <a:off x="324000" y="1176480"/>
            <a:ext cx="8496000" cy="4505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5724360" y="32558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7380360" y="3284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1979640" y="40910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3924360" y="495612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4276" descr=""/>
          <p:cNvPicPr/>
          <p:nvPr/>
        </p:nvPicPr>
        <p:blipFill>
          <a:blip r:embed="rId1"/>
          <a:stretch/>
        </p:blipFill>
        <p:spPr>
          <a:xfrm>
            <a:off x="490680" y="762120"/>
            <a:ext cx="8162640" cy="53337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2843280" y="543096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0:3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